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921-B3AE-457E-ADFA-34A590C8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C63-A066-4C67-8AFD-6A91831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616-E6B8-41C8-BF15-367F5B1C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1DA-CE51-489A-863A-DEB5813B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AAD-72A4-4B31-9E05-FADBE61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EF1-323E-463A-BB75-1CD6271B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7CC-AFA7-444A-98A0-9B54FD8C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A99-7B20-4CB2-B9E4-435844E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9C2-820F-4D1E-B707-BEADAC98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3E0-E7EF-4FB5-9556-B8AE961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03B-5BCF-49A1-A265-59347F7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87E-3FFC-46D5-837E-7B1AEBE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A16-319A-4D97-BE89-242333DC18A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566" r="0" b="14803"/>
          <a:stretch/>
        </p:blipFill>
        <p:spPr>
          <a:xfrm>
            <a:off x="0" y="3068640"/>
            <a:ext cx="4427640" cy="3816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0" b="29050"/>
          <a:stretch/>
        </p:blipFill>
        <p:spPr>
          <a:xfrm>
            <a:off x="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427640" y="6308640"/>
            <a:ext cx="462096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By: Amy Chen, Bridget Panyc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6028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Genetically Modified Plant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ornl.gov/sci/techresources/Human_Genome/elsi/gmfood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greenfacts.org/en/gmo/2-genetically-modified-crops/1-agricultural-biotechnology.htm#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recipes.howstuffworks.com/question148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rebuchet MS"/>
              </a:rPr>
              <a:t>http://www.trendhunter.com/trends/blue-rose-is-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宋体"/>
              </a:rPr>
              <a:t>Whitman, Deborah. Genetically Modified Foods: Harmful or Helpful. April 2000. http://www.csa.com/discoveryguides/gmfood/overview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Makes changes to the hereditary material of a living organis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rebuchet MS"/>
              </a:rPr>
              <a:t>Biotechnologies are used to develop plants resistant to pests, diseases, drought, heat, or cold, and improve the nutritional content of plant foo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683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 2006, a total of 252 million acres of transgenic crops were planted in 22 countries by 10.3 million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rbicide- and insect-resistant soybeans, corn, and co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weet potato resistant to a virus that could decimate most of the African harv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ice with increased iron and vitamins that may alleviate chronic malnutrition in Asia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ariety of plants able to survive weather extr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76720" cy="30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0" b="10810"/>
          <a:stretch/>
        </p:blipFill>
        <p:spPr>
          <a:xfrm>
            <a:off x="5076720" y="3429000"/>
            <a:ext cx="3171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Examples of GM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267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, made by Monsanto (agriculture company)- a herbicide that kills any plant that it t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“Roundup Ready”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op ignores Roundup, but weeds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undup Ready seeds reduce production costs and increase yield, so food becomes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ientists have inserted genes that produce a natural insecticide into cor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0360" y="3860640"/>
            <a:ext cx="2664000" cy="177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79064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Genetically Modifi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rebuchet MS"/>
              </a:rPr>
              <a:t>Blue R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A Japanese company, Sun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Delphinidin (produces blue pig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Trebuchet MS"/>
              </a:rPr>
              <a:t>Growing the rose experimentally in Australia and the United States to get approval for s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33670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00"/>
                </a:solidFill>
                <a:latin typeface="Agency FB"/>
                <a:ea typeface="宋体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9560" y="1773360"/>
            <a:ext cx="57708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Restriction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Ligase enzym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Gene vecto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00000"/>
                </a:solidFill>
                <a:latin typeface="Trebuchet MS"/>
                <a:ea typeface="宋体"/>
              </a:rPr>
              <a:t>Donor gen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24000" y="976320"/>
          <a:ext cx="1133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76320"/>
                    <a:ext cx="1133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771640" y="1336680"/>
          <a:ext cx="174312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336680"/>
                    <a:ext cx="1743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012000" y="1407960"/>
          <a:ext cx="149544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407960"/>
                    <a:ext cx="149544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020000" y="3568680"/>
          <a:ext cx="177156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3568680"/>
                    <a:ext cx="1771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995640" y="4000680"/>
          <a:ext cx="1495440" cy="19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000680"/>
                    <a:ext cx="14954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2992320"/>
          <a:ext cx="2682720" cy="367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2992320"/>
                    <a:ext cx="268272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403280" y="1768320"/>
          <a:ext cx="158436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768320"/>
                    <a:ext cx="1584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84720" y="1697040"/>
          <a:ext cx="158436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4720" y="1697040"/>
                    <a:ext cx="1584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236000" y="1841400"/>
          <a:ext cx="1736640" cy="1685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1841400"/>
                    <a:ext cx="173664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580000" y="4505400"/>
          <a:ext cx="165744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0000" y="4505400"/>
                    <a:ext cx="1657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2627280" y="4361040"/>
            <a:ext cx="129528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8720" y="18900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gency FB"/>
              </a:rPr>
              <a:t>Diagram of Proce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gency FB"/>
              <a:ea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00"/>
                </a:solidFill>
                <a:latin typeface="Agency FB"/>
              </a:rPr>
              <a:t>Benefits</a:t>
            </a:r>
            <a:r>
              <a:rPr b="1" lang="zh-TW" sz="6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r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Preventing malnutrition/dis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  <a:ea typeface="宋体"/>
              </a:rPr>
              <a:t>Eliminating Pestic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Enviro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"Friendly" herbicides and insectici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Conservation of soil, water, and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Better natural waste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Socie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rebuchet MS"/>
              </a:rPr>
              <a:t>Increased food security for growing popul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gency FB"/>
              </a:rPr>
              <a:t>Risks and Controvers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Safet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uman health impact: allergens, transfer of antibiotic resistance markers, unknown eff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Ethics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iolation of nature’s organis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ampering with nature by mixing genes among spe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Objections to consuming animal genes in pl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4:52:09Z</dcterms:created>
  <dc:creator>ASUS</dc:creator>
  <dc:description/>
  <dc:language>en-US</dc:language>
  <cp:lastModifiedBy>HP</cp:lastModifiedBy>
  <dcterms:modified xsi:type="dcterms:W3CDTF">2008-03-05T12:41:10Z</dcterms:modified>
  <cp:revision>38</cp:revision>
  <dc:subject/>
  <dc:title>Genetically Modified Plants</dc:title>
</cp:coreProperties>
</file>